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514E-5B5C-4B31-8CBE-D080311E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BAEE-1F07-410F-B549-6F002E05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35CA-5E51-4EF4-9228-41A08AFA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5EBF-9438-4A1B-ACB6-7B3C6DBE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3248-2F00-4508-A876-4A782378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DA33-21D8-4EE7-BF70-0E17B3B1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ACE2-B564-41FC-8AD0-1E89D941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4976-CC13-4781-B8EB-8E79A50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2172-D4B7-4CD4-9E3A-BCAF103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125F-1E06-41D9-8785-4BADE9BA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7800-6B2C-4649-96B5-A3353F28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99F0-061A-4009-83EF-389E692C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5E75-2F61-4D77-806C-A6043D27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AED6-639E-423E-8A28-F182090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0721-00BC-49D0-BDE9-ED9FE19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0AB1-4F36-4268-A167-272E285F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0BC-9794-40C6-9D62-550DECB6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89B1-5C0F-4F45-98A6-749F9BC7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7926-CFFE-4CC1-A458-FD67A078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0F7E-B147-4724-873C-3077B0A9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483D-E4B7-489B-8F45-5F60CBD6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22AB-2228-454B-A1B7-2DD3BAC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DB42-F724-4343-9F26-8DC9C00F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4EDB-CDCB-40F0-A590-8B6CA5E8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05BD-BA63-4C70-81E9-445CCF21B39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DC1A-146F-45A2-8D2B-7AB95E56AD7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86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Дали съм страж на брат си аз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л' гледам само мен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лцина съм довел при Спас, откакто съм спасен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ли се спъва някой бра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става в тъмни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неже в мен е гъст мра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место светлин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225000"/>
            <a:ext cx="1008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 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(По-бързо)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де са тез верни страж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д брата си що бд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ат' пазачи наш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своя пост не спят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ри ли нам в сърц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истовата любов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Господа децат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век век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В кого живее завист 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чината се знай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' Каин е в душа му нощ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види ли той рай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Господ дава благо­да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 любовта цар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блясък светъл и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нас да озар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225000"/>
            <a:ext cx="1008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 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(По-бързо)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де са тез верни страж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д брата си що бд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ат' пазачи наш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своя пост не спят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ри ли нам в сърц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истовата любов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Господа децат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век век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а скръбните сърца неде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рича нежна реч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пътника сионски вл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дежда, Дух нов веч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ъди, о, Господи, Ти м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мощник в този пъ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любя Бог и брат св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стигна в райски къ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225000"/>
            <a:ext cx="1008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 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(По-бързо)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де са тез верни страж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д брата си що бдя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ат' пазачи наш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своя пост не спят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ри ли нам в сърца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истовата любов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Господа децат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век век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5:25Z</dcterms:modified>
  <cp:revision>162</cp:revision>
  <dc:subject/>
  <dc:title>Slide 1</dc:title>
</cp:coreProperties>
</file>